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666-BD3F-4849-A589-F5777F9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0B1-D5D3-40C5-B3B7-7779802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10E-84A6-45BC-BADF-33415C3B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F9D-C496-471F-A9FC-BB1735A5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3D09-3716-4CE6-AC37-6FC3C52C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8247-3832-47A3-9497-F4B5570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DAA-19DF-4BB6-941D-AE8BA3C8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799-3357-4E09-9FBE-13D55EE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673-DBBC-434F-B4F5-0883A51B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96D5-DDBC-4352-93C7-97F2B7E5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9ED-2C55-4D1A-88D4-1203FFF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364-AF38-4E81-89C3-600DA27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6B4-1223-419F-B6F5-595D2D8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9B9F-6D43-4F71-9E58-48865AA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46FF-B998-4FCC-A35B-D8E19821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1FF-1C6F-479E-9B7C-FE976F73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A84-60FC-44EA-BEE0-3E30C748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6FA-959E-436D-9F64-C763485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EE3-F0C9-4209-BDB3-C3874AE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315-1998-47CA-BD44-7D4954F2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25A-B830-4D09-8989-0661AAF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68C-D650-43F0-8924-DBB40AD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BA8-AFA0-404C-814D-17C9F9A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A83-4E92-4B8A-9B0C-8C59509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614-E8B2-4E45-9C0D-DEA73D1811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B73-E5EE-4431-8B60-773E1B59C5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day, October 4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angle postula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Classify angles as acute, obtuse or r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What are your plans for fall break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it 1 Ex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dnesday, October 6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288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01T19:30:44Z</dcterms:modified>
  <cp:revision>46</cp:revision>
  <dc:subject/>
  <dc:title>Slide 1</dc:title>
</cp:coreProperties>
</file>